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D8EB80-1DB3-4B26-9785-FDEC79CFF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5C6862A-A1CD-47B0-A53C-BC014C78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2DB168A-751F-4264-93A6-58903BEF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52C330-20EA-44BB-B020-B426C91D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AF2E21-221C-414E-B71E-A41CA9A2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95A3FB-146D-4C07-9190-1159218D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D1F0711-E007-40FD-B008-CA9259D8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9E64E3D-7154-4CFD-8909-639DC4285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73C0287-8210-4B41-9382-E5488F857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05365E-5282-44F7-918A-E46BC9CC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386546-5A44-434D-8DD7-B4F7BEA6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01C-8D57-4672-98AA-5874C7A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702-D9D6-4B1C-9217-2F93840E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380-F806-4418-BA3D-AFC14B2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980-9493-4E73-84EC-0E6E9468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20A-312E-472A-81AD-A5989F66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513-5B19-47B7-8D6A-E690DB1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BC8-EC11-4DB0-9894-39D64436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27F-5652-403C-AB3E-490B51D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157-B49D-4B89-A8C6-4976F42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900-5D1E-46DE-AAB1-75D1E3DF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DA6-1657-4538-B0D6-3A83DDAF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64B-416B-49C6-8F45-8AB2846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825-2B2C-43D8-AA0F-14761C542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3350-75DD-414F-90AD-989AAF48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5, 200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F9C1-8247-46D8-A64F-BC1C55974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C52-2D1D-4880-B735-1DAEC98B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ERCOT Certificate Policies and Certification Practic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/Support Implementation of SCR7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/Accomplishment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Testing Connectivity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hrough of new Outage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6394-E031-4ED5-8D35-2D1729C9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continues working with ERCOT to support implementation of SCR745 including the new architectur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 provided on technical solution. Currently in test. Planned implementation to production on 12-8. This will complete ERCOT initiatives for SCR 7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321F-66CA-4B68-907C-D858C618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ERCOT Certificate Policies and Certification Practic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ian Brennan updated TDTWG with information related to Digital Certificate Manag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E98-44CE-4F1A-A126-F0803F3E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ntinue working with the ERCOT Manager of Operations to address each system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COT Operations Manager reviewed November’s incident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5378-15FA-4A15-8730-AEAFE439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DTWG continues working with ERCOT to support implementation of SCR7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vin Tanner presented early preview of the working ERCOT website for Outage Notif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B22-FC46-4589-809E-C14C7C97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Goal/Accomplishment 20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put together list of this year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1AC-8F32-468D-82CD-9A687C98D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Review Testing Connectivity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TWG reviewed testing connectivity scripts and made recommendations to discuss details with ERCOT test group and take recommendations to TT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9ACA-45CF-4A82-9C43-121A6BF0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Run through of new Outage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ck Adams will give you a quick run through of the new Outage Notifications Calendar from SCR74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11-29T15:24:57Z</dcterms:modified>
  <cp:revision>436</cp:revision>
  <dc:subject/>
  <dc:title>PowerPoint Presentation</dc:title>
</cp:coreProperties>
</file>